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glass.wav" ContentType="audio/x-wav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0417-1D4C-4D88-82A0-38027942E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BF05-CFA7-4282-BA38-193AC822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86F9-2F9C-4E66-A80A-BFE20E80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1960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7248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56672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81960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7248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140B-BF0E-4907-AABF-EAE6E1E0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E79E-F9BC-4B98-B716-BF4F00B52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493E-E424-4155-A65F-15F7D322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0022-B060-4441-839C-E96632CE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7193-C992-4402-BA96-8E3958FB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1CDF-E336-403F-89A6-354863A5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169640" y="1045800"/>
            <a:ext cx="738036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EC34-BC17-4898-BE4B-0996E1CC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3F4E-27A9-4923-AF76-5D10ED91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8E98-ADA7-4E0E-A72F-7A2DDEAA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B2B3-F778-463F-A4E7-4AA45CC1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F8AD-D91A-4891-8AA6-F70BB5F9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1F2F-3523-412D-9C59-496BE19E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0E3E-B7B0-439D-9E1D-64BF73712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81960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7248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56672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81960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7248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5C08-5996-4A3E-AE28-95B4AFC5B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706F-E776-4C10-96DB-108ED258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54BC-5F1C-4CF6-BADD-08101CD3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AFCA-AE3E-4757-B95B-EFD45E00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69640" y="1045800"/>
            <a:ext cx="738036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52AF-4FE2-45CA-8FF2-86ADDB83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BF07-F067-4D95-96A3-10AB6545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D018-AE1E-40E9-A1F7-196DE1CE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5EC6-85BD-49F8-B24B-C7847C3A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F854-6D20-449E-B216-C44CAF060E17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A4B3-A04A-41A2-8CDF-3ADD9979BE90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glass.wav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Impulse, Momentum and Conservation of Momentum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378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mentum is Conserve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4647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447920" y="1494000"/>
            <a:ext cx="7086600" cy="53020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523880" y="2057400"/>
            <a:ext cx="708660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Z student defends school with potato gu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Conservation of Momentum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Times New Roman"/>
              </a:rPr>
              <a:t>Newton’s Third Law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he potato goes one way and the gun “recoils” in the opposite direction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he gun exerts a force on the potato and the potato exerts an equal but opposite force on the gun, recoil. 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166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en-US" sz="8800" spc="-1" strike="noStrike" baseline="-25000">
                <a:solidFill>
                  <a:srgbClr val="003366"/>
                </a:solidFill>
                <a:latin typeface="Times New Roman"/>
              </a:rPr>
              <a:t>Gun/Girl =</a:t>
            </a:r>
            <a:r>
              <a:rPr b="0" lang="en-US" sz="8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88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en-US" sz="8800" spc="-1" strike="noStrike" baseline="-25000">
                <a:solidFill>
                  <a:srgbClr val="003366"/>
                </a:solidFill>
                <a:latin typeface="Times New Roman"/>
              </a:rPr>
              <a:t>Potato</a:t>
            </a:r>
            <a:endParaRPr b="0" lang="en-US" sz="8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hese forces produce equal but opposite changes in momentum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Since the girl  is “attached” to the gun, the combination of the girl /gun mass is much greater than the mass of the potato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he girl and the gun recoil at a velocity much smaller than the potato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If </a:t>
            </a:r>
            <a:r>
              <a:rPr b="0" i="1" lang="en-US" sz="54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en-US" sz="5400" spc="-1" strike="noStrike" baseline="-25000">
                <a:solidFill>
                  <a:srgbClr val="003366"/>
                </a:solidFill>
                <a:latin typeface="Times New Roman"/>
              </a:rPr>
              <a:t>Gun&amp;Person</a:t>
            </a: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 = </a:t>
            </a:r>
            <a:r>
              <a:rPr b="0" i="1" lang="en-US" sz="54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en-US" sz="5400" spc="-1" strike="noStrike" baseline="-25000">
                <a:solidFill>
                  <a:srgbClr val="003366"/>
                </a:solidFill>
                <a:latin typeface="Times New Roman"/>
              </a:rPr>
              <a:t>Potato</a:t>
            </a: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 Then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M</a:t>
            </a:r>
            <a:r>
              <a:rPr b="0" lang="en-US" sz="5400" spc="-1" strike="noStrike" baseline="-25000">
                <a:solidFill>
                  <a:srgbClr val="003366"/>
                </a:solidFill>
                <a:latin typeface="Times New Roman"/>
              </a:rPr>
              <a:t>gun/person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Times New Roman"/>
              </a:rPr>
              <a:t>gun/person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Times New Roman"/>
              </a:rPr>
              <a:t>potato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v</a:t>
            </a:r>
            <a:r>
              <a:rPr b="0" lang="en-US" sz="5400" spc="-1" strike="noStrike" baseline="-25000">
                <a:solidFill>
                  <a:srgbClr val="003366"/>
                </a:solidFill>
                <a:latin typeface="Times New Roman"/>
              </a:rPr>
              <a:t>potato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f the mass on the left of the equation is </a:t>
            </a:r>
            <a:r>
              <a:rPr b="1" i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larg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compared to the right, then the velocity on the right must be </a:t>
            </a:r>
            <a:r>
              <a:rPr b="1" i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larg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compared to the left if they are to be equal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590920" y="4343400"/>
            <a:ext cx="1885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1066680" y="685800"/>
            <a:ext cx="2362320" cy="1219320"/>
            <a:chOff x="1066680" y="685800"/>
            <a:chExt cx="2362320" cy="1219320"/>
          </a:xfrm>
        </p:grpSpPr>
        <p:sp>
          <p:nvSpPr>
            <p:cNvPr id="322" name=""/>
            <p:cNvSpPr/>
            <p:nvPr/>
          </p:nvSpPr>
          <p:spPr>
            <a:xfrm>
              <a:off x="1066680" y="685800"/>
              <a:ext cx="1600200" cy="914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43200" y="1143000"/>
              <a:ext cx="685800" cy="457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19320" y="1523880"/>
              <a:ext cx="380880" cy="38124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57400" y="1523880"/>
              <a:ext cx="380880" cy="38124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66880" y="1523880"/>
              <a:ext cx="381240" cy="38124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4952880" y="1143000"/>
            <a:ext cx="914400" cy="3808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029200" y="1447920"/>
            <a:ext cx="228600" cy="152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486400" y="1447920"/>
            <a:ext cx="228600" cy="152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838080"/>
            <a:ext cx="114300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" y="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Before collis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" y="320040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fter collis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he system has the same total momentum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4876920" y="3581280"/>
            <a:ext cx="2361600" cy="1219320"/>
            <a:chOff x="4876920" y="3581280"/>
            <a:chExt cx="2361600" cy="1219320"/>
          </a:xfrm>
        </p:grpSpPr>
        <p:sp>
          <p:nvSpPr>
            <p:cNvPr id="334" name=""/>
            <p:cNvSpPr/>
            <p:nvPr/>
          </p:nvSpPr>
          <p:spPr>
            <a:xfrm>
              <a:off x="4876920" y="3581280"/>
              <a:ext cx="1599840" cy="914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53080" y="4038480"/>
              <a:ext cx="685440" cy="457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4419360"/>
              <a:ext cx="380520" cy="38124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867280" y="4419360"/>
              <a:ext cx="380520" cy="38124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76760" y="4419360"/>
              <a:ext cx="380880" cy="38124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7238880" y="3657600"/>
            <a:ext cx="304920" cy="8380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62920" y="4419720"/>
            <a:ext cx="228600" cy="152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10280" y="3809880"/>
            <a:ext cx="228600" cy="1526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638680" y="3429000"/>
            <a:ext cx="83844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04920" y="1828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19810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=2000 kg, v = 5 m/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00600" y="1905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76920" y="1981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 = 500 kg, v = 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Impulse “J”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79624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By rewriting his own 2</a:t>
            </a:r>
            <a:r>
              <a:rPr b="0" lang="en-US" sz="3600" spc="-1" strike="noStrike" baseline="30000">
                <a:solidFill>
                  <a:srgbClr val="003366"/>
                </a:solidFill>
                <a:latin typeface="Times New Roman"/>
              </a:rPr>
              <a:t>nd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law, Newton defined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impulse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= m </a:t>
            </a:r>
            <a:r>
              <a:rPr b="1" lang="en-US" sz="3600" spc="-1" strike="noStrike" baseline="30000">
                <a:solidFill>
                  <a:srgbClr val="003366"/>
                </a:solidFill>
                <a:latin typeface="Times New Roman"/>
              </a:rPr>
              <a:t>.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a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=m </a:t>
            </a:r>
            <a:r>
              <a:rPr b="1" lang="en-US" sz="3600" spc="-1" strike="noStrike" baseline="30000">
                <a:solidFill>
                  <a:srgbClr val="003366"/>
                </a:solidFill>
                <a:latin typeface="Times New Roman"/>
              </a:rPr>
              <a:t>.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F </a:t>
            </a:r>
            <a:r>
              <a:rPr b="1" lang="en-US" sz="3600" spc="-1" strike="noStrike" baseline="30000">
                <a:solidFill>
                  <a:srgbClr val="003366"/>
                </a:solidFill>
                <a:latin typeface="Times New Roman"/>
              </a:rPr>
              <a:t>.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t = m  </a:t>
            </a:r>
            <a:r>
              <a:rPr b="1" lang="en-US" sz="3600" spc="-1" strike="noStrike" baseline="30000">
                <a:solidFill>
                  <a:srgbClr val="003366"/>
                </a:solidFill>
                <a:latin typeface="Times New Roman"/>
              </a:rPr>
              <a:t>.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Δ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J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F </a:t>
            </a:r>
            <a:r>
              <a:rPr b="1" lang="en-US" sz="3600" spc="-1" strike="noStrike" baseline="30000">
                <a:solidFill>
                  <a:srgbClr val="ff3300"/>
                </a:solidFill>
                <a:latin typeface="Times New Roman"/>
              </a:rPr>
              <a:t>.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t=  m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Δ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v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= Δ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=change in momentu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124080" y="3429000"/>
                <a:ext cx="6987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609480" y="380880"/>
            <a:ext cx="79581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o the safest way to stop an object is to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tretch out the tim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it takes to stop things so you could use the smallest possible force.  That’s why if something is cushioned and soft it is less likely to break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6553080" y="510552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7162920" y="30481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952880" y="30481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91120" y="5334120"/>
            <a:ext cx="19810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0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Action/Reaction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Conservation of momentum is just a consequence of Newton’s third Law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ewton Again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1981080"/>
            <a:ext cx="777240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Newton observed objects colliding and realized that two things dictate what it takes to change the motion of an object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003366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3366"/>
                </a:solidFill>
                <a:uFillTx/>
                <a:latin typeface="Times New Roman"/>
              </a:rPr>
              <a:t>Mass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(how much matter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003366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3366"/>
                </a:solidFill>
                <a:uFillTx/>
                <a:latin typeface="Times New Roman"/>
              </a:rPr>
              <a:t>Velocity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(how fast it’s going in a given direction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He Called This Momentum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1" lang="en-US" sz="9600" spc="-1" strike="noStrike">
                <a:solidFill>
                  <a:srgbClr val="003366"/>
                </a:solidFill>
                <a:latin typeface="Times New Roman"/>
              </a:rPr>
              <a:t> = </a:t>
            </a:r>
            <a:r>
              <a:rPr b="0" lang="en-US" sz="9600" spc="-1" strike="noStrike">
                <a:solidFill>
                  <a:srgbClr val="003366"/>
                </a:solidFill>
                <a:latin typeface="Times New Roman"/>
              </a:rPr>
              <a:t>m</a:t>
            </a:r>
            <a:r>
              <a:rPr b="0" lang="en-US" sz="9600" spc="-1" strike="noStrike" baseline="30000">
                <a:solidFill>
                  <a:srgbClr val="003366"/>
                </a:solidFill>
                <a:latin typeface="Times New Roman"/>
              </a:rPr>
              <a:t>.</a:t>
            </a:r>
            <a:r>
              <a:rPr b="1" lang="en-US" sz="9600" spc="-1" strike="noStrike">
                <a:solidFill>
                  <a:srgbClr val="003366"/>
                </a:solidFill>
                <a:latin typeface="Times New Roman"/>
              </a:rPr>
              <a:t>v</a:t>
            </a:r>
            <a:endParaRPr b="0" lang="en-US" sz="9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Impulse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5816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y rewriting his own 2</a:t>
            </a:r>
            <a:r>
              <a:rPr b="0" lang="en-US" sz="3200" spc="-1" strike="noStrike" baseline="30000">
                <a:solidFill>
                  <a:srgbClr val="003366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law, Newton defined Impulse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=m</a:t>
            </a:r>
            <a:r>
              <a:rPr b="1" lang="en-US" sz="3200" spc="-1" strike="noStrike" baseline="30000">
                <a:solidFill>
                  <a:srgbClr val="003366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=m</a:t>
            </a:r>
            <a:r>
              <a:rPr b="1" lang="en-US" sz="3200" spc="-1" strike="noStrike" baseline="30000">
                <a:solidFill>
                  <a:srgbClr val="003366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</a:t>
            </a:r>
            <a:r>
              <a:rPr b="1" lang="en-US" sz="3200" spc="-1" strike="noStrike" baseline="30000">
                <a:solidFill>
                  <a:srgbClr val="003366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=m</a:t>
            </a:r>
            <a:r>
              <a:rPr b="1" lang="en-US" sz="3200" spc="-1" strike="noStrike" baseline="30000">
                <a:solidFill>
                  <a:srgbClr val="003366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Δ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 = IMPULSE “J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</a:t>
            </a:r>
            <a:r>
              <a:rPr b="1" lang="en-US" sz="3200" spc="-1" strike="noStrike" baseline="30000">
                <a:solidFill>
                  <a:srgbClr val="003366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= m</a:t>
            </a:r>
            <a:r>
              <a:rPr b="1" lang="en-US" sz="3200" spc="-1" strike="noStrike" baseline="30000">
                <a:solidFill>
                  <a:srgbClr val="003366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Δ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=Δ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=change in momentu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2971800" y="3200400"/>
                <a:ext cx="512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f a 5 N force pushes a 2 kg object  for 3 seconds, how much will the momentum change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213372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3657600"/>
            <a:ext cx="6933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ow much is the impulse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ow much will the speed change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ow much is the acceleration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1045800"/>
            <a:ext cx="9144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Conservation of Momentum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761760" y="2693520"/>
            <a:ext cx="784836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Let’s look at what happens to momentum before, during and after a collision/explosion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If </a:t>
            </a:r>
            <a:r>
              <a:rPr b="0" i="1" lang="en-US" sz="54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en-US" sz="5400" spc="-1" strike="noStrike" baseline="-25000">
                <a:solidFill>
                  <a:srgbClr val="003366"/>
                </a:solidFill>
                <a:latin typeface="Times New Roman"/>
              </a:rPr>
              <a:t>Gun/Emily</a:t>
            </a: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 = </a:t>
            </a:r>
            <a:r>
              <a:rPr b="0" i="1" lang="en-US" sz="54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en-US" sz="5400" spc="-1" strike="noStrike" baseline="-25000">
                <a:solidFill>
                  <a:srgbClr val="003366"/>
                </a:solidFill>
                <a:latin typeface="Times New Roman"/>
              </a:rPr>
              <a:t>Potato</a:t>
            </a: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 Then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0" y="2214360"/>
            <a:ext cx="91440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M</a:t>
            </a:r>
            <a:r>
              <a:rPr b="0" lang="en-US" sz="5400" spc="-1" strike="noStrike" baseline="-25000">
                <a:solidFill>
                  <a:srgbClr val="003366"/>
                </a:solidFill>
                <a:latin typeface="Times New Roman"/>
              </a:rPr>
              <a:t>gun/Emily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Times New Roman"/>
              </a:rPr>
              <a:t>gun/Emily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Times New Roman"/>
              </a:rPr>
              <a:t>potato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v</a:t>
            </a:r>
            <a:r>
              <a:rPr b="0" lang="en-US" sz="5400" spc="-1" strike="noStrike" baseline="-25000">
                <a:solidFill>
                  <a:srgbClr val="003366"/>
                </a:solidFill>
                <a:latin typeface="Times New Roman"/>
              </a:rPr>
              <a:t>potato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If the mass on the left of the equation is </a:t>
            </a:r>
            <a:r>
              <a:rPr b="1" i="1" lang="en-US" sz="4800" spc="-1" strike="noStrike" u="sng">
                <a:solidFill>
                  <a:srgbClr val="003366"/>
                </a:solidFill>
                <a:uFillTx/>
                <a:latin typeface="Times New Roman"/>
              </a:rPr>
              <a:t>large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 compared to the right, then the velocity on the right must be </a:t>
            </a:r>
            <a:r>
              <a:rPr b="1" i="1" lang="en-US" sz="4800" spc="-1" strike="noStrike" u="sng">
                <a:solidFill>
                  <a:srgbClr val="003366"/>
                </a:solidFill>
                <a:uFillTx/>
                <a:latin typeface="Times New Roman"/>
              </a:rPr>
              <a:t>large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 compared to the left if they are to be equal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Action/Reaction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Conservation of momentum is just a consequence of Newton’s third Law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1045800"/>
            <a:ext cx="9144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Conservation of Momentum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761760" y="2693520"/>
            <a:ext cx="784836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Let’s look at what happens to momentum before, during and after a collision/explosion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8T22:22:59Z</dcterms:created>
  <dc:creator>James Keelty</dc:creator>
  <dc:description/>
  <dc:language>en-US</dc:language>
  <cp:lastModifiedBy>SOCSD</cp:lastModifiedBy>
  <dcterms:modified xsi:type="dcterms:W3CDTF">2011-02-07T13:44:42Z</dcterms:modified>
  <cp:revision>10</cp:revision>
  <dc:subject/>
  <dc:title>Impulse, Momentum and Conservation of Momentum</dc:title>
</cp:coreProperties>
</file>